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208E-17CB-4499-BDE0-A4C25F9B1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95EE-3E7B-4196-9D0D-55CDEEAA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347C-E6CE-4A05-913F-004E0574D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B818-1B2A-4F28-A231-363A3200A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4EE5-527A-480F-AA7A-D986F99F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84C5-E9D4-405D-BEE3-B2AA6889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269E-487C-4029-8C4C-CCB9294C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C437-06C3-403D-882D-3638F8EF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434D-71FC-4A36-96A3-2262445B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9AB3-E5C9-48B3-805A-0239F87B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64F9-7552-47B9-BCD1-E89B34B2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57E0-49A7-498B-A094-3AD83AC4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300A-21C1-4435-98DE-F6B5F252AA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rainyquote.com/quotes/quotes/m/marktwain122650.html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rainyquote.com/quotes/quotes/c/carljung157295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The Human Br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"/>
              </a:rPr>
              <a:t>How does it wor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657600" y="2057400"/>
            <a:ext cx="1295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ard Gardner’s Multiple Intelligen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Linguistic Intelligence: (Word Smart)These learners have highly developed auditory skills and are generally elegant speakers.  They think in words rather than pi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Logical – Mathematical Intelligence:  (Numbering-reasoning smart)These learners think conceptually in logical and numerical patterns making connections between pieces of in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ard Gardner’s Multiple Intelligen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Spatial Intelligence: (Picture smart) These learners tend to think in pictures and need to create vivid mental images to retain in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Bodily/Kinesthetic Intelligence:  (Body smart)These learners express themselves through movement.  They have a good sense of balance and eye-hand coordin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ard Gardner’s Multiple Intellig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Musical Intelligence: (Music smart) These learners think in sounds, rhythms and patterns.  They immediately respond to music either appreciating or criticizing what they he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 Interpersonal Intelligence: (People smart) These learners try to see things from other people’s point of view in order to understand how they think and fe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ard Gardner’s Multiple Intelligenc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. Intrapersonal Intelligence: (Self smart) These learners try to understand their inner feelings, dreams, relationships with other and strengths and weaknes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440" y="4876560"/>
            <a:ext cx="5486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howcard Gothic"/>
                <a:ea typeface="Cambria Math"/>
              </a:rPr>
              <a:t>Which  intelligence  are y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rcRect l="9555" t="0" r="9555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828800" y="4724280"/>
            <a:ext cx="5486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Gray Area – Frontal lob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White Area – Parietal lob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Red Area – Occipital lob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Green Area – Temporal lob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rcRect l="480" t="0" r="480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Frontal Lobe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Problem solving, emotional control, expressive language, voluntary movement, control of social behavior, decision mak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ccording to the National Institute for Mental Health the frontal lobe continues to develop into your twenties! (there is still hop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rietal Lobe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uch, awareness of spatial relations, academic skills (reading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971800" y="2819520"/>
            <a:ext cx="333360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mporal Lobe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mory, receptive language, musical awareness, sequenc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048120" y="2362320"/>
            <a:ext cx="30286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ccipital Lobe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isual perception, visual inpu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162160" y="1600200"/>
            <a:ext cx="4819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n IQ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Q stands for Intelligence Quot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gan in France in 190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issioned by the French government to find a method to differentiate between children who were intellectually normal and those who were infer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ifications include “normal,” “idiot,” or “imbecile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t is better to keep your mouth closed and let people think you are a fool than to open it and remove all doubt. </a:t>
            </a:r>
            <a:br>
              <a:rPr sz="1800"/>
            </a:br>
            <a:br>
              <a:rPr sz="1800"/>
            </a:br>
            <a:r>
              <a:rPr b="1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Mark Twai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criptive Classifications of Intelligence Quotien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 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Q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cription% of Popul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30+Very superior2.2%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20-129Superior6.7%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10-119High average16.1%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0-109Average5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0-89Low average16.1%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0-79Borderline6.7%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low 70Extremely low2.2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one does not understand a person, one tends to regard him as a fool. </a:t>
            </a:r>
            <a:br>
              <a:rPr sz="2400"/>
            </a:b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arl Ju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roblems with IQ test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Q measurement could be used to condemn a child to a permanent “condition” of stupid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lligence cannot be described in a single sc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gins of the test included racial and cultural bigo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itle 1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1T12:20:43Z</dcterms:created>
  <dc:creator>INSTALLER</dc:creator>
  <dc:description/>
  <dc:language>en-US</dc:language>
  <cp:lastModifiedBy>INSTALLER</cp:lastModifiedBy>
  <dcterms:modified xsi:type="dcterms:W3CDTF">2011-04-04T12:38:53Z</dcterms:modified>
  <cp:revision>7</cp:revision>
  <dc:subject/>
  <dc:title>The Human Brain</dc:title>
</cp:coreProperties>
</file>